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DAB-C410-4C58-81F9-5DF2482EA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E637-B48A-4461-A9C6-E3AA6F0F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1881F-FF93-4FC5-9DBD-06D4F422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6EB1A-0E45-4418-89E1-B62EDB6C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B60CD-FD0B-4DC6-A4ED-447E2D51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1F261A-8332-42FA-A632-46B4CF5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27474-8971-4E51-80F2-128A96F5D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BF1501-E8DD-4F82-98AC-24F2A937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612550-14A9-4DD0-8D0B-615310A3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23895-7960-49A6-B107-144DF41E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885D3-9C7B-475C-88E0-7195C981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228732-8E14-46E6-B208-CB7009A2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429-06B6-40B4-85EE-A682A37C5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1F60E-B555-4632-A6F6-3ABFF07C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5AA0F-C614-4ABF-A3F3-1C56DCE6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AA26D-5923-43BF-885D-56AA241C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12702-2C5F-4E20-AF46-53914EA5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7A8F0-7333-4CC0-AFF1-84D349A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14E122-D3D0-4C0A-9258-0CC4A5B0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0361F-0F2A-486A-8FF3-34B4417A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FCE9A-27A8-444C-8F45-92B71C79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83872-5366-4EDF-8AFC-31EC53D3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FC0D0-D46B-4D0F-B7E2-B9150031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E22D-D1E0-4727-939A-14BC4A43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55827-8787-49AE-8736-2CC5F354E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77C0-6F09-434A-A2AE-A056FF3E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0869D-DDE1-4906-B4FA-8EA1710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7CA35D-A6CD-4098-AEC7-996790E9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981E5E-68AF-495A-89A5-4572B20B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6787B8-3048-44FB-88CD-A3D4BE30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D797C5-B410-4121-93E1-C2935FE5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2EA9EA2-72D0-4B3D-B214-9B94778E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85887-EED5-4D99-B76F-68EEEC01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E703D0A-3595-4053-9C2F-B94905872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6331D9F-C7F6-4D1A-B2E2-8410964D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8D257F3-2899-48C0-A0D3-39E9BF89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FD9F65-4284-4CD2-98C1-BACBCD16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BAAFAB-0E95-4762-AD37-062090EA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8A7CFE8-3287-4D1E-BFD0-6831CD4A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F4FAE4-0CAF-4EC7-A331-1219C984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17FB103-8D18-4D71-A0C3-178E0DA7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A948348-0FF0-4DC9-8F8B-C321A69A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7A7E9E5-3043-4159-94EB-A73D8D65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327F-6113-4726-861A-3D41CF5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E593A80-4222-4555-B331-8E39A8D2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78DE9D-EAF0-49FE-80C1-0C3A3D974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B2A3FB-A3E0-4E00-B024-ABD7C43C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6339AF-3B92-4E32-8BDE-CB8076D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99D797-511E-4CEF-8891-096762FB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2186BB1-FF97-427A-80CD-3ACAD26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399ECC0-A9B2-42DD-9FA4-7A2397E27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6332A6B-E7DB-4E64-BDC3-6993DC88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2C87AF-95F7-49ED-8860-92A9D6EA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5CD41C-1354-427C-A3A6-3EF070766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77BB3-763C-4335-98EE-D947982F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C18E10F-B5CA-493A-99C3-F4442D5D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5FBFD23-1704-4965-9376-5697B0A17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10F2090-BC09-4C8C-BD9B-BC796442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160772-6FEE-489C-85EA-658AC7B1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3C40B1-2B26-4628-BA3B-A43A735E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785D08D-F253-490A-8EBF-C8A668A4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406D1DD-34A6-46C5-BEF1-0C02723C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4B38F6-00D5-4B7E-A5E9-4D69A9B56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49F2B36-9DCA-41B5-9A47-86113973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3064E17-45D6-4E20-B3ED-4AF3B2AF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7CC3-0CD1-46AE-9BA0-D2F141511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C27630-B83D-4DD4-95FD-6DDCCEBF5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861DC28-21DB-4B3F-A6E8-3107A133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BFA44A0-A0CB-4DFF-8878-62B8F682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A45C7B5-548F-4A58-8658-ED8C33D8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B20BCC-264C-403F-8C19-07A628AB7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731B502-9C33-42EB-A23C-2C99E85B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E7BA181-2199-44E5-BF43-D03D323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1D34500-2C3A-4EB2-ABA4-B354A07F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AB0214F-2505-43AB-88BC-900D3786F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A17649-E0D3-4D71-871D-0F8BF2EA2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1D911-0892-4204-BF3A-E366B7B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FD861F0-162F-4BA2-8DCC-CB352ACC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56CC5E8-9743-4561-985C-C607D1F4E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B6BE9B4-C50C-47B7-986C-5780064F3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0EE-1D0D-4AAE-B5E5-37353612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CDA0A-FECB-4DF8-BB48-9F6597CF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C1CC-7C3F-4A6B-8BA4-1D19E1E1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012B-05D5-460C-A7FC-C45D3F15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19E13-D912-4649-87EE-8175F4FDC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A836-70FF-47A8-B1BD-05CA3069D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06A5C-D153-414F-BDF3-A5E4711A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12622-645F-47CE-A33F-8B92A0A2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9744E-56EB-4DFF-AD4F-3B545D75B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5BD00-481C-4D54-A568-CAB686A0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027A-9803-4F61-929F-E87137C8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EB70-FC42-47C1-BD41-D2067032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CDBB9-56F1-457C-BC90-9D186966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B416B-8AE1-4592-B153-F79AF1BA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FB36D-C137-489B-9D6C-7D71E0FF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44BCA-39E8-4815-AB65-EE32364E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3B626-95AF-43A0-8A19-3E5B4458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7E00-49E1-45A4-B47B-CC0BFECE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4AEE1-9471-4202-A84B-42E9BDF4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04593-B194-4AFB-9300-C5955CBA8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9BB0F-BC59-4C15-AAA4-AD91CAE3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D5BB-1CBD-46F9-9330-E94C3E94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C137-3304-4DE2-8810-A200FCC7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D0348-F861-4BBE-8B8E-E53083C4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C6FE2-266D-42AC-9BA8-462F1522A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6933B-9235-4BB2-ACB9-21A83D71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00549-4A66-42CF-A6C5-60C870D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8D760-3CAA-4D73-B58E-EC9C04F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8D54-7122-4696-A55A-2C8C54CB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7F38B-8ABB-42F9-9496-5833BB50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635A4-77C4-49F8-B631-267FEFE2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CF582-2EA4-4020-9228-953A841F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511A4-F575-4BD1-8193-9BB11C2A3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3570-DEE6-4F91-999E-1B18A81AF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CF626-F5C6-463D-8CC6-29B12587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AAC46-9211-489C-A7CD-AEB77615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D7552-2BFE-4764-8E46-8AE1372DF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13C9C-EAB7-4CBC-BD28-B62C9799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4343-6393-44DA-A468-6C4FD889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FEF89-6FAC-4A4A-8554-1ACC5A11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95FF3-601F-40F8-A433-6249005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9F0BA-FFC5-4658-AD34-5CFA57F4A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274CC-A096-458E-A9DE-4DDC4336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E155-27D0-41B7-805D-8EA5D2851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4300-124E-416B-8C6C-F722D75A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3AC44-1161-4FAE-AB67-1ED1CFDB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764A-EB5C-4010-B4E6-BE302750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D1EF8-7B30-4D4B-AF98-A41718C1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7F3B5-7FA1-4E26-92D8-FA331BA6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E7F7B-A4EE-4EB3-BE59-C9874C83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061C2-CF79-4A7D-B930-80F72398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2CD73A-999A-4ACC-8CB7-58B3B304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1E0D6-22E5-4D41-86DA-7294389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42670-07EF-4620-A78B-D39F5135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E2168-4B73-4D0B-B9DB-BA02F7EE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1C65-1F51-4ADC-872A-C33FBC8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027D5-A890-4B04-BDA2-DF2E23936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6FA04-E611-48D4-8E27-6A627C52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9D59E-0374-4DCA-BE9F-86D6C202F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AD718-8122-46F1-8986-903F0F76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3C87A-9598-4B60-B6C7-EA59BF16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66212-4119-4D71-811D-5D2F66D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B0B7B-F8C5-466E-A1F8-AE106576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F370D-1109-4FA1-A6C5-9E6D487B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DD392-2FAD-4434-8D2B-269BEBBB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79C9A-6ECF-4286-8536-2ED781A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8EC-6417-45CD-887C-508329BC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99B2BF-E0F8-4A9E-8838-55D4C13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FD32D-714B-49E7-B5DA-9BD99BC4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AD869-BFE8-4731-AB8B-F598E6E1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E771C-8348-4F74-8183-7DEDA1C86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70DA3-663D-49B3-B006-9568C3399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E8EEF8-3533-47CB-8779-DDF953D1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13DB4-3EF5-4DEE-BC55-B39DD430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56973-3B1C-482B-8B96-616F097AC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C6214-06E4-4838-8B2A-340AFAD4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22308D-5D15-49A4-98AF-B1204354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6FA1-67DA-4863-BB3C-E1946A8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15440" y="1456920"/>
            <a:ext cx="8309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B996E-1B93-4322-8602-985B8071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1687B-D0C0-4A62-BE67-2CEAED9A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4899-76AA-424F-B295-7AFB64BE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16B8C-1A2A-4B14-A4D5-045A9BC6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5440" y="4587120"/>
            <a:ext cx="8309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EB1D-76FD-4287-823B-C63FE381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277020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1544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3160" y="4587120"/>
            <a:ext cx="405468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C9AF5-D7BE-49A9-A3F7-C3D2B507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2488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33960" y="277020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1544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2488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33960" y="4587120"/>
            <a:ext cx="2675160" cy="16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804D9-762C-4AF0-82B1-15AD47F26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6949D-83CD-49DC-BEE3-AC728B1D8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379CE-D8CC-4E5D-A154-62993208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F0D93-B082-4BAB-A248-C399D90B9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95C7C9-BC02-4526-A6E8-03ADA36F4242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6075E-AE61-4861-8F17-74B45A5C65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03E8C-6132-406A-80FF-4DBFD6E3BB0D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C3EAC0-566C-41A8-BA29-99A8CA8931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18252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2CD8A4-6CF5-4DE1-8938-B3A09FAC3DC1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182520" y="3281400"/>
            <a:ext cx="8788320" cy="317484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3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CCEB38-5E32-4F6C-A151-98F0F89CCDBF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3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wireframeOverlay-PCVertical.png"/>
          <p:cNvPicPr/>
          <p:nvPr/>
        </p:nvPicPr>
        <p:blipFill>
          <a:blip r:embed="rId5"/>
          <a:srcRect l="0" t="0" r="0" b="-123316"/>
          <a:stretch/>
        </p:blipFill>
        <p:spPr>
          <a:xfrm>
            <a:off x="3835440" y="1179360"/>
            <a:ext cx="5133960" cy="527544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dt" idx="3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4B3530-EE79-4105-B2DD-3DF38516AFB7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ftr" idx="3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sldNum" idx="3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7211CD-6C6D-4AB2-BB26-D8C90898C6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dt" idx="38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2F852-E9E5-4570-8F9D-58A4D5AC20F5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ftr" idx="39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 type="sldNum" idx="40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B7D0C-EE95-4E7A-A46B-EB1FF954CE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8" descr="wireframeOverlay-VerticalTC.png"/>
          <p:cNvPicPr/>
          <p:nvPr/>
        </p:nvPicPr>
        <p:blipFill>
          <a:blip r:embed="rId5"/>
          <a:srcRect l="0" t="-93643" r="0" b="0"/>
          <a:stretch/>
        </p:blipFill>
        <p:spPr>
          <a:xfrm>
            <a:off x="7445520" y="1177920"/>
            <a:ext cx="1523880" cy="527544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41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4570A4-35F4-467A-A6E8-288C3285C107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42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43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38875-89BC-4407-A7F2-08779998AE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0" name="Rectangle 8"/>
          <p:cNvSpPr/>
          <p:nvPr/>
        </p:nvSpPr>
        <p:spPr>
          <a:xfrm>
            <a:off x="182520" y="1179360"/>
            <a:ext cx="8788320" cy="5276880"/>
          </a:xfrm>
          <a:prstGeom prst="rect">
            <a:avLst/>
          </a:prstGeom>
          <a:gradFill rotWithShape="0">
            <a:gsLst>
              <a:gs pos="0">
                <a:srgbClr val="76b6f2"/>
              </a:gs>
              <a:gs pos="100000">
                <a:srgbClr val="263b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1" name="Picture 10" descr="DirectionalButtons-LeftOnlyOnly.png"/>
          <p:cNvPicPr/>
          <p:nvPr/>
        </p:nvPicPr>
        <p:blipFill>
          <a:blip r:embed="rId5"/>
          <a:stretch/>
        </p:blipFill>
        <p:spPr>
          <a:xfrm>
            <a:off x="7837560" y="53820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D2FF5F-5032-44B6-BDC1-AC743880A2BE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663F00-9E37-488B-8438-2A1DA9B93B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wireframeOverlay-Home.png"/>
          <p:cNvPicPr/>
          <p:nvPr/>
        </p:nvPicPr>
        <p:blipFill>
          <a:blip r:embed="rId5"/>
          <a:srcRect l="0" t="-93970" r="0" b="0"/>
          <a:stretch/>
        </p:blipFill>
        <p:spPr>
          <a:xfrm>
            <a:off x="179280" y="1182600"/>
            <a:ext cx="8786880" cy="5276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DirectionalButtons-RightOnly.png"/>
          <p:cNvPicPr/>
          <p:nvPr/>
        </p:nvPicPr>
        <p:blipFill>
          <a:blip r:embed="rId6"/>
          <a:stretch/>
        </p:blipFill>
        <p:spPr>
          <a:xfrm>
            <a:off x="7821720" y="533520"/>
            <a:ext cx="752400" cy="352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F6E518-855E-45FD-AA49-4F86A9C00E74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AD1A7-0B3F-4098-965E-FEC044FF3C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B2380F-71FD-41AD-B84A-E2CA0E743CEF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5ACA8D-6697-407D-A79F-6282A94F88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wireframeOverlay-TCFull.png"/>
          <p:cNvPicPr/>
          <p:nvPr/>
        </p:nvPicPr>
        <p:blipFill>
          <a:blip r:embed="rId5"/>
          <a:srcRect l="-198725" t="0" r="0" b="0"/>
          <a:stretch/>
        </p:blipFill>
        <p:spPr>
          <a:xfrm>
            <a:off x="177840" y="1179360"/>
            <a:ext cx="8788320" cy="52768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4FFED-4A05-4E56-B2A8-32806091A6B8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FA81D1-0139-4F67-A14D-8F917A2B8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wireframeOverlay-SectionH.png"/>
          <p:cNvPicPr/>
          <p:nvPr/>
        </p:nvPicPr>
        <p:blipFill>
          <a:blip r:embed="rId5"/>
          <a:srcRect l="0" t="0" r="-91873" b="0"/>
          <a:stretch/>
        </p:blipFill>
        <p:spPr>
          <a:xfrm>
            <a:off x="182520" y="1179360"/>
            <a:ext cx="878544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5E5831-6597-4AF8-990E-604948738EB4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7C01FF-F2EE-4236-9FB9-74C1633465D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65F336-5896-4AEF-A03E-A86C4450C8CE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4BD3D-3C11-4DC9-A0BC-78E7D6DB7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BD9540-861F-4A39-B7CB-809148538B44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272242-26B3-48A6-A500-F04EBAA06A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wireframeOverlay-Content.png"/>
          <p:cNvPicPr/>
          <p:nvPr/>
        </p:nvPicPr>
        <p:blipFill>
          <a:blip r:embed="rId5"/>
          <a:stretch/>
        </p:blipFill>
        <p:spPr>
          <a:xfrm>
            <a:off x="179280" y="1179360"/>
            <a:ext cx="8786880" cy="14414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BB4A9-B2B9-41B2-981D-27CF0E5BE7D2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B38E3-1827-4880-9BE5-8A2928A5DD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6" descr="HomeButton.png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552600" y="525600"/>
            <a:ext cx="457200" cy="3524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DirectionalButtons-Full.png"/>
          <p:cNvPicPr/>
          <p:nvPr/>
        </p:nvPicPr>
        <p:blipFill>
          <a:blip r:embed="rId4"/>
          <a:stretch/>
        </p:blipFill>
        <p:spPr>
          <a:xfrm>
            <a:off x="7826400" y="525600"/>
            <a:ext cx="752400" cy="352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wireframeOverlay-ContentCap.png"/>
          <p:cNvPicPr/>
          <p:nvPr/>
        </p:nvPicPr>
        <p:blipFill>
          <a:blip r:embed="rId5"/>
          <a:srcRect l="0" t="0" r="0" b="-135873"/>
          <a:stretch/>
        </p:blipFill>
        <p:spPr>
          <a:xfrm>
            <a:off x="182520" y="1179360"/>
            <a:ext cx="4229280" cy="52740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15440" y="2770200"/>
            <a:ext cx="8309160" cy="34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1024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2048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3072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40960" indent="-210240">
              <a:spcBef>
                <a:spcPts val="20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1051560" indent="-21024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1051560" indent="-210240">
              <a:spcBef>
                <a:spcPts val="20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6449760" y="6454440"/>
            <a:ext cx="2398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B76ED1-80AB-4549-90A7-61DB212308E5}" type="datetime">
              <a:rPr b="0" lang="en-US" sz="1000" spc="-1" strike="noStrike">
                <a:solidFill>
                  <a:srgbClr val="40404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260280" y="645444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8381880" y="12193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6FDD50-9AAD-4AFF-9BE2-CFFE889200C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17600" y="2168640"/>
            <a:ext cx="8307360" cy="16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Ishmael Beah: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Calibri"/>
              </a:rPr>
              <a:t>A Long Way Gone </a:t>
            </a: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hapters 2 and 3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17600" y="3809520"/>
            <a:ext cx="8307360" cy="7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r. Rush/ Mr. Farrel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 Muskies!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p of Afric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orldproblemsshroder.wikispaces.com/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. What does Ishmael Beah experience at the beginning of Chapter 2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e meets with his moth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 wins the rap competition in Mattru Jo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 first joins with the other child soldi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He experiences flashbacks from his war experien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. The rebels send a messenger to Mattru Jong.  What did they do to the messenger to inform the people not to resist the rebel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gave him money to bribe the local chief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cut off his fingers as a message not to leave the villag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killed all of his family so that he would tell them to fle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gave him extra food to give to the villag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3.  When did the rebels attack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 next da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never did attack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x)  Several weeks later 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passed over the tow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4. Why didn’t the rebels want the people to flee the town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wanted to use them as human shields against the military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wanted them to work for them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needed food for the soldier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57200" indent="-228600">
              <a:spcBef>
                <a:spcPts val="601"/>
              </a:spcBef>
              <a:buClr>
                <a:srgbClr val="26262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hey needed them to help cultivate cocain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Quiz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5.  At the end of the chapter, what happened to Ishmael and his friend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ran away and escap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were recruited into the arm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reunited with their fami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y were given food and shelter from the rebe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Mattru Jo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o attacked Mattru Jong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did the government soldiers do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ad Guys vs. Bad Guy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o is Fighting Whom?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Interview daily show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ttp://worldproblemsshroder.wikispaces.com/5.+Week+Two+%28Jan+10+to+Jan+14%29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Rebel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UF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42" name="Picture 4" descr=""/>
          <p:cNvPicPr/>
          <p:nvPr/>
        </p:nvPicPr>
        <p:blipFill>
          <a:blip r:embed="rId2"/>
          <a:stretch/>
        </p:blipFill>
        <p:spPr>
          <a:xfrm>
            <a:off x="1577880" y="990720"/>
            <a:ext cx="7147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overnment Soldiers of Sierra Leon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45" name="Picture 4" descr=""/>
          <p:cNvPicPr/>
          <p:nvPr/>
        </p:nvPicPr>
        <p:blipFill>
          <a:blip r:embed="rId2"/>
          <a:stretch/>
        </p:blipFill>
        <p:spPr>
          <a:xfrm>
            <a:off x="1104840" y="2600280"/>
            <a:ext cx="7620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at you will do today!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1724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b6f2"/>
                </a:solidFill>
                <a:latin typeface="Calibri"/>
              </a:rPr>
              <a:t>What you will do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41724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Quia- Chapter 1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iscussion book so fa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pter 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hapter 3- Attack on Mattru Jo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frica Map Review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73320" y="2676600"/>
            <a:ext cx="384012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6b6f2"/>
                </a:solidFill>
                <a:latin typeface="Calibri"/>
              </a:rPr>
              <a:t>Objectiv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4873320" y="3308040"/>
            <a:ext cx="384012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Solutions to contemporary problem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1800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Explain how scarcity influences decision mak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Similariti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overnment and the Rebels both killed innocent civilia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oth use child soldi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oth want diamon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748" name="Picture 3" descr=""/>
          <p:cNvPicPr/>
          <p:nvPr/>
        </p:nvPicPr>
        <p:blipFill>
          <a:blip r:embed="rId2"/>
          <a:stretch/>
        </p:blipFill>
        <p:spPr>
          <a:xfrm>
            <a:off x="5299200" y="325908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4" descr=""/>
          <p:cNvPicPr/>
          <p:nvPr/>
        </p:nvPicPr>
        <p:blipFill>
          <a:blip r:embed="rId3"/>
          <a:stretch/>
        </p:blipFill>
        <p:spPr>
          <a:xfrm>
            <a:off x="3324240" y="4935600"/>
            <a:ext cx="3048120" cy="248904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5" descr=""/>
          <p:cNvPicPr/>
          <p:nvPr/>
        </p:nvPicPr>
        <p:blipFill>
          <a:blip r:embed="rId4"/>
          <a:stretch/>
        </p:blipFill>
        <p:spPr>
          <a:xfrm>
            <a:off x="507960" y="4941720"/>
            <a:ext cx="328932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Grad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issing Work ends in losing point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ore than 2 days missing, your grade drop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xpectation Shee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llins/ Graphic Organizers all du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elp Sessions- every day after school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ac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Ques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scribe life in Sierra Leone prior to the war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does this tell us about the culture of Sierra Leone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advice does his grandmother give him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 you agree with this? Why/ Why not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While Readin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Keep your head up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e on the correct pag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ay attention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sk question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n’t call out. 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is PTSD?  What are flashback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ow does he experience this in this chapter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2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ow might someone like Ishmael Beah be helped when he has these experiences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hapter 3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o is about to attack Mattru Jong?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at happens when they attack? (Graphic Organizer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15440" y="1456920"/>
            <a:ext cx="8309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Countries in Afric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415440" y="2755800"/>
            <a:ext cx="8309160" cy="34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ierra Leone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Liberi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udan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Nigeri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Senegal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buClr>
                <a:srgbClr val="7f7f7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Tunisia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1900" spc="-1" strike="noStrike">
                <a:solidFill>
                  <a:srgbClr val="404040"/>
                </a:solidFill>
                <a:latin typeface="Calibri"/>
              </a:rPr>
              <a:t>(Know these 6 countries and 14 more= 20 total- any more you get an additional .5)</a:t>
            </a:r>
            <a:endParaRPr b="0" lang="en-US" sz="19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2T09:29:49Z</dcterms:created>
  <dc:creator>Craig Rush</dc:creator>
  <dc:description/>
  <dc:language>en-US</dc:language>
  <cp:lastModifiedBy>Craig Rush</cp:lastModifiedBy>
  <dcterms:modified xsi:type="dcterms:W3CDTF">2011-01-13T11:21:55Z</dcterms:modified>
  <cp:revision>4</cp:revision>
  <dc:subject/>
  <dc:title>Ishmael Beah: A Long Way Gone Chapters 2 and 3</dc:title>
</cp:coreProperties>
</file>